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BEA-F4C5-4368-94C8-8FB702C2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B47-3815-4609-AFD2-F5509B2C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DEA-9CB2-450D-9372-02E82271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23A-F3CA-41F2-B05E-A2A221E2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A9D0-3034-4D9D-9A35-EF2722F2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2FFD-CAAC-4D32-A3FA-7F34A037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37BD-0985-421C-A450-F6B1F29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69F6-4F9D-47A3-9B5E-814BC88E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004A-5D03-4BBD-BF28-C58882B7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CD3E-9FC8-4F63-9120-F5BCE98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8783-DF98-4E4B-B7B1-8BA70DA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C7A-AD85-4A97-A214-4E2D51A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1DF8-F3D5-4902-B0CC-274A7BC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FBD8-1EDB-4518-95CF-54CC888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3BA4-332C-473A-9B2F-1B2DDA08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0E0F-3E97-4978-94C3-F8571A58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0FD-E77C-487A-B16B-D67917B8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29F-4259-46EF-83DD-29CB7018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495-A104-437E-B1B6-CBD58A6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734-5484-46CC-BC40-F24B5775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003-560C-4B5B-A0D1-1FF1BCB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74D-D963-4CD6-9A4E-817FACE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804-AD2D-498F-96BE-D56CBF7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D4A-3233-4AEA-B98E-149AAE4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9F63-B769-403D-81F4-8AC5F2945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759-D78B-4E8B-8B5D-E2266EAAA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1496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Hufen i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Comic Sans MS"/>
              </a:rPr>
              <a:t>â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1280" y="119664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e Amy, Bob, Carrie, a Dan yn sefyll mewn rhes i brynu hufen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â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fnyddiwch y brawddegau canlynol i benderfynu ym mha drefn maent yn sefyll</a:t>
            </a: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66320" y="3860640"/>
            <a:ext cx="5153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e Carrie rhwng Amy a Bob.</a:t>
            </a:r>
            <a:br>
              <a:rPr sz="2800"/>
            </a:b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e Dan nesa’ at Amy.</a:t>
            </a:r>
            <a:br>
              <a:rPr sz="2800"/>
            </a:b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Nid Bob sydd gynta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11970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7:56Z</dcterms:created>
  <dc:creator>Carwyn</dc:creator>
  <dc:description/>
  <dc:language>en-US</dc:language>
  <cp:lastModifiedBy>Carwyn</cp:lastModifiedBy>
  <dcterms:modified xsi:type="dcterms:W3CDTF">2008-12-04T20:23:13Z</dcterms:modified>
  <cp:revision>3</cp:revision>
  <dc:subject/>
  <dc:title>Hufen iâ</dc:title>
</cp:coreProperties>
</file>